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55B-B636-448C-AB12-9FC2E529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57C-220B-4B9B-8D40-A8899247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64A-DA26-44EE-AACE-1E2B216B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2C2-7FDC-44F8-8C85-F0E0B0E9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685-54B2-4D29-9079-66C8E7C4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D8E-2901-4F7C-86CC-CCE05692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D6C-FC63-4D00-AEB1-E782727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0B7-1CA7-4380-8550-AEC88397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9FB-EC34-4CF1-A3C6-6487F75D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E8C-4996-4AFA-8ECE-CB3F289B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A0C-AA08-4021-BFA0-4F751951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249-C45E-47D7-9A29-C865E20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68F4-AC96-49AA-8E1F-0E04CFB14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EF OFFIC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ING CURRICULUM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1200" y="8534520"/>
            <a:ext cx="574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200" y="455760"/>
            <a:ext cx="5632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7162920"/>
            <a:ext cx="57909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 1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09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70280" y="152280"/>
            <a:ext cx="2608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5400000">
            <a:off x="2245320" y="1531080"/>
            <a:ext cx="1855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C-OPS-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263160" y="4881600"/>
            <a:ext cx="594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Officer Training Curriculum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(Modules 1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3T18:40:38Z</dcterms:created>
  <dc:creator>Debra Martin</dc:creator>
  <dc:description/>
  <dc:language>en-US</dc:language>
  <cp:lastModifiedBy>jboggs</cp:lastModifiedBy>
  <cp:lastPrinted>2003-01-16T17:12:34Z</cp:lastPrinted>
  <dcterms:modified xsi:type="dcterms:W3CDTF">2006-02-08T14:26:01Z</dcterms:modified>
  <cp:revision>34</cp:revision>
  <dc:subject/>
  <dc:title>US&amp;R WMD</dc:title>
</cp:coreProperties>
</file>